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B42-5A32-4799-9016-605B7242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68A-EC93-42B1-A4A8-94E6CEC8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06D-5170-4555-B6AA-038058FC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2A6-C6F6-4175-AF73-E81B4360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9A37-8C58-4D10-B7F6-CFFBF6B0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5FE1-A49D-4863-9056-14C264D0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B4E6-6E13-4485-8964-544D4B03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04E2-5E94-4F66-A8ED-A08D582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2AF4-2107-4207-A58E-5DA263A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75B4-34F2-4F7D-8246-B2880027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6E1C-CA8A-4DC9-95D3-025106FC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07E-7AB2-46A8-8D58-A29E0B39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9E04-3F1B-4EFF-996B-4C4ABCBF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87F5-E546-4E47-A693-9013C488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ADFB-44B7-4B95-9B25-C05CB156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3C1C-8189-4357-8CB2-EB044EDC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5FD0-CD4B-4A8B-A024-4E2857EA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48A-5147-4A9E-8A36-DFD9B8D5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0B3-208C-4020-99F1-D3C76ECD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567-F4C4-46A5-8841-F8C1F86A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245-5A72-4B68-A140-91A076D7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C13-5B06-47AC-97EB-27BD1C5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A74-004E-48A8-B016-73E1167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C3D-3E07-4958-8A60-ECADD1BB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FA39-7799-4F1F-8D77-BBE01B96CA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859F-1287-4564-8619-BD7CFE83CC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Me llamo ________      Clase 6NH(601) 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La fecha es el 14 de noviembre del 2012   </a:t>
            </a:r>
            <a:endParaRPr b="0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53416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Verdana"/>
              </a:rPr>
              <a:t>Propósito # 15: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Para que clases estudias much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xto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Entrevista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p. R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,…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4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are the rules for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CONJUGATION  (“-ar” verbs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ronouns in or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d and take out the infinitive ending of the verb (“-ar”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ace the “-ar” with the correct end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410080" y="1676520"/>
          <a:ext cx="3581640" cy="4495320"/>
        </p:xfrm>
        <a:graphic>
          <a:graphicData uri="http://schemas.openxmlformats.org/drawingml/2006/table">
            <a:tbl>
              <a:tblPr/>
              <a:tblGrid>
                <a:gridCol w="1791000"/>
                <a:gridCol w="1790640"/>
              </a:tblGrid>
              <a:tr h="64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Mirar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d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34880" y="2944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880" y="3429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880" y="4662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1752480"/>
            <a:ext cx="4572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75248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315200" y="175248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54320" y="2286000"/>
            <a:ext cx="87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560" y="2895480"/>
            <a:ext cx="10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560" y="3733920"/>
            <a:ext cx="86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560" y="4572000"/>
            <a:ext cx="154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4880" y="5334120"/>
            <a:ext cx="106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37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a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juga los verbos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036800"/>
          <a:ext cx="8381880" cy="5668920"/>
        </p:xfrm>
        <a:graphic>
          <a:graphicData uri="http://schemas.openxmlformats.org/drawingml/2006/table">
            <a:tbl>
              <a:tblPr/>
              <a:tblGrid>
                <a:gridCol w="2095560"/>
                <a:gridCol w="2097000"/>
                <a:gridCol w="2094120"/>
                <a:gridCol w="20952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Tocar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Cant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Prepar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To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XTBOO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Historieta 5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R13 (1-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KBOO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p. R8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&amp;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R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04920"/>
            <a:ext cx="731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rea #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6:31Z</dcterms:created>
  <dc:creator>Helen Zumaeta</dc:creator>
  <dc:description/>
  <dc:language>en-US</dc:language>
  <cp:lastModifiedBy>Helen Zumaeta</cp:lastModifiedBy>
  <dcterms:modified xsi:type="dcterms:W3CDTF">2012-11-28T21:42:52Z</dcterms:modified>
  <cp:revision>18</cp:revision>
  <dc:subject/>
  <dc:title>Me llamo ________ Clase 6NH La fecha es el 15 de febrero del 2012</dc:title>
</cp:coreProperties>
</file>